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EFFB-E648-4DFB-92B9-30B8D5B85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6423-602E-45D2-A676-08FD024A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ABD7-3044-4EA5-9FFD-B35B09D0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DDA3-E0CF-45BC-BD6D-696000D52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17D9-086E-408B-9E54-C44FD15E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6049-A809-429A-B366-3598572E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CBB1-4D82-428D-B801-54C19779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5A4D-0F1F-442E-A5E3-4FFDF01D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7510-CD3A-4907-8824-3144C88C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CEFF-3DDE-4A31-9517-9C57C609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01CD-6338-450B-B154-7E23C7F5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55D0-1334-4760-B786-738B46DA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911E-2103-463E-97BD-5C11049AE809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00120"/>
            <a:ext cx="781524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Фармакологија и токсикологија за стоматологију – 1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недеља настав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оф. др Слободан Јанкови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Колаген за хируршке процедуре у стоматологиј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Добија се из Ахилове тетиве говече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унђераста, еластична структу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Примени се на рану која крвари, и континуирано притиска 2 до 5 мину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Може да се уклони или остави на месту апликациј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нтифибринолитиц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57120" y="1714680"/>
            <a:ext cx="85726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сле операције или вађења зуба, када се хемостаза успостави, долази до активирања процеса фибринолизе. Фибринолиза нагриза коагулуме, и после неколико дана може изазвати накнадно крварењ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а би се то спречило, пацијентима се после операције даје да испирају уста раствором који садрж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антифибринолитик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5% транексамична киселина, 4 пута дневно, 7 дана, или 25% епсилон-аминокапронска киселина, 4 пута дневно, 7 дан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ваква локална примена антифибринолитика је врло ефикасна, јер смањује учесталост постоперативних крвављења са 40% на само 7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Фибрински лепа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240480" y="1785960"/>
            <a:ext cx="8551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стоји се из две компонен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ибрин + фактор 13 и тромбина + калциј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да дођу у контакт, настаје угруш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ибрин је добијен из плазме давала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омбин је говеђег порек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си ризик од трансмисије инфекције хепатитисом Б, Ц или ХИВ-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Транексамична киселин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5% - тна течност за испирање ус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Користи се за спречавање крварења после операција у усној дупљи код особа које су на антикоагулансим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Пацијенти на хроничној оралној антикоагулантној терапији и екстракција зуб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42560" y="1600200"/>
            <a:ext cx="900108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Није потребно прекидати примену оралних антикоагуланас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Хемостаза се постиже постављањем желатинског сунђера и сутурама свилом преко сунђе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Учесталост постоперативног крварења је од 5 до 15%, и не зависи од висине ИНР-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558720" y="5643720"/>
            <a:ext cx="8245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inder D, Manor Y, Martinowitz U, Taicher S. Dental extractions in patients maintained on oral anticoagulant therap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 of INR value with occurrence of postoperative bleeding. Int J Oral Maxillofac Surg. 2001 ;30(6):518-2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inder D, Manor Y, Martinowitz U, Taicher S, Hashomer T. Dental extractions in patients maintained on continued o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coagulant: comparison of local hemostatic modali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l Surg Oral Med Oral Pathol Oral Radiol Endod. 1999 Aug;88(2):137-4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Вежб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ПАСТЕ ЗА ЗУБ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57120" y="1444680"/>
            <a:ext cx="8501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асте за зубе садрже сапун или детерџент уз прашак који је довољно тврд и храпавих честица да делује абразивно на површину зуба (таман толико да са ње скине прљавштину,а да не оштети глеђ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бразивни прашкови могу бити тројаки, у погледу величине и храпавости честиц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груб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са тврдим и великим честицам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(2) политирајућ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са мање тврдим и мањим честицама;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(3) прашкови за чишћењ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са меканим и малим честицама, који служе само за најблаже чишћење зу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Најчешће коришћени абразив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Вулканска прашин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састоји се углавном од алуминијума, калијума и натријума; може бити самлевена у различитим величинама честица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Корунд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је минерал алуминијум оксид, који се самлевен у прашак користи као абразив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Чист алумијум оксид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амлевен у прашак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Кред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је калцијум-карбонат припремљен методом преципитације; спада у групу политирајућих абразив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Калај оксид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хром-оксид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песак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цирконијум силикат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Хумектан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71680" y="2643120"/>
            <a:ext cx="792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Хумектант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у сустанце у пастама за зубе које спречавају њихово исушивање: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глицерин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сорбитол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пропилен-глик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Детерџен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857160" y="2690640"/>
            <a:ext cx="7858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д 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детерџената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се у пастама за зубе налази најчешће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натријум лаурил сулфат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н омогућава скидање плака са зуба и олакшава клизање четкице преко зуб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7120" y="292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Предавањ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Натријум лаурил сулфа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Остали састојци пасте за зуб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Rectangle 1"/>
          <p:cNvSpPr/>
          <p:nvPr/>
        </p:nvSpPr>
        <p:spPr>
          <a:xfrm>
            <a:off x="714240" y="2301120"/>
            <a:ext cx="771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а би сви састојци пасте за зубе били хомогено измешани, додаје се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конституенс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везујућ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средство), који је најчешће карбокси метил целуло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некада се у пасте додају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коригенси укус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заслађивачи: нпр. сахарин),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антисептиц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натријум флуорид, стронцијум хлорид, уреа, амонијум фосфат) 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бој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метил-плаво, магента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Средства за испирање усне дупљ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42960" y="2571840"/>
            <a:ext cx="8501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Средства за испирање</a:t>
            </a:r>
            <a:r>
              <a:rPr b="0" lang="sr-CS" sz="2800" spc="-1" strike="noStrike">
                <a:solidFill>
                  <a:srgbClr val="c00000"/>
                </a:solidFill>
                <a:latin typeface="Comic Sans MS"/>
              </a:rPr>
              <a:t> усне дупље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у заправо раствори којима се усна дупља испира, после чега се испљун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Користе се ради превенције каријеса и за лечење гингивитиса и стоматитис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Састојци раствора за испирање усне дупљ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285840" y="2090160"/>
            <a:ext cx="8501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Алкохол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10-20%, ради дезинфекције, растварањ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ругих супстанци и корекције уку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Хумектант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глицерол и сорбитол (5-20%)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већавају вискозност препарата и дају му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латкаст уку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Сурфактант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полиоксиетилен сорбитол, натријум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лаурил сулфат) омогућавају да препарат пени 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кида прљавштин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Коригенси укус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ментол, пеперминт, цимет, метил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алицилат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Бој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метил-плаво, магента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Лекови који се додају у растворе за испирањ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Rectangle 1"/>
          <p:cNvSpPr/>
          <p:nvPr/>
        </p:nvSpPr>
        <p:spPr>
          <a:xfrm>
            <a:off x="214200" y="1765800"/>
            <a:ext cx="89298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нтихистаминик + кортикостероид + антибиотик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 лечење стоматит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лопуринол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за лечење стоматит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илокарпи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за лечење недовољног лучења пљувач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мфотерицин Б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 лечење кандидија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ранексамична киселин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 спречавање крварењ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сле опер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Хлорхексидин глуконат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 превенцију пл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Хексетиди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због антибактеријског дејств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ЛЕКОВИ ЗА ЛОКАЛНУ ХЕМОСТАЗУ У УСНОЈ ДУПЉ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285840" y="1500120"/>
            <a:ext cx="8643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сле тешких екстракција зуба или обимнијих хируршких интервенција у усној дупљи оперативно место може доста да крвар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рварење се може зауставити применом на место интервенције ресорптивног коагулантног средства: </a:t>
            </a:r>
            <a:r>
              <a:rPr b="1" lang="sr-CS" sz="2200" spc="-1" strike="noStrike">
                <a:solidFill>
                  <a:srgbClr val="c00000"/>
                </a:solidFill>
                <a:latin typeface="Comic Sans MS"/>
              </a:rPr>
              <a:t>оксидисана регенерисана целулоза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sr-CS" sz="2200" spc="-1" strike="noStrike">
                <a:solidFill>
                  <a:srgbClr val="c00000"/>
                </a:solidFill>
                <a:latin typeface="Comic Sans MS"/>
              </a:rPr>
              <a:t>сунђер од желатина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sr-CS" sz="2200" spc="-1" strike="noStrike">
                <a:solidFill>
                  <a:srgbClr val="c00000"/>
                </a:solidFill>
                <a:latin typeface="Comic Sans MS"/>
              </a:rPr>
              <a:t>колаген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 (синтетски или микрокристални или свињски), </a:t>
            </a:r>
            <a:r>
              <a:rPr b="1" lang="sr-CS" sz="2200" spc="-1" strike="noStrike">
                <a:solidFill>
                  <a:srgbClr val="c00000"/>
                </a:solidFill>
                <a:latin typeface="Comic Sans MS"/>
              </a:rPr>
              <a:t>н-бутил-2-цијано-акрилатни лепак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или </a:t>
            </a:r>
            <a:r>
              <a:rPr b="1" lang="sr-CS" sz="2200" spc="-1" strike="noStrike">
                <a:solidFill>
                  <a:srgbClr val="c00000"/>
                </a:solidFill>
                <a:latin typeface="Comic Sans MS"/>
              </a:rPr>
              <a:t>фибрински лепак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 (састоји се углавном од тромбина и фибриногена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ада се ови хемостатици поставе у рану, она се може преко ушити ресорптивним концем ; пацијенту затим треба дати смотуљак влажне газе да преко њега загризе, а да газа притисне на рану – после око 10 минута притиска крварење обично ста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Желатински сунђе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325080" y="1500120"/>
            <a:ext cx="846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личина 1 х 1 х 1 центимет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тпуно се апсорбује ако остане на месту примене после неколико нед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 изазива алерг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а неутралан 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псорбује крв до 50 пута веће тежине од сопстве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 се применити сув или натопљен физиолошким раство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 да се сече и облику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изводи се од колагена из коже сви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</a:t>
            </a: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ханизам дејства желатинског сунђе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тромбоцити који долазе у контакт са сунђером бивају оштећени и ослобађају тромбопласти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тромбопластин интерагује са протромбином и калцијумом и настаје тромби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ем наведеног, желатински сунђер даје механичку основу за настанак угруш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Н-бутил-цијаноакрила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285560"/>
            <a:ext cx="8472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упстанца која се у присуству слабе базе (нпр. мало воде) полимеризује кроз егзотермну реакциј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Полимеризација наступа за 10 секунд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Због полимеризације слепљује ивице ткива једне за друг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Може се применити код периодонталних операција или за хемостазу после вађења зуб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Оксидисана целулоз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714240" y="2413080"/>
            <a:ext cx="8072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Оксидисана целулоза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е добија излагањем обичне целулозе неком оксидационом средству (нпр. водоник пероксиду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ксидационо средство доводи до стварања алдехидних и кето група у целулози, тако да она лакше активира систем коагулације кр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Врсте оксидисане целулоз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655200" y="2357280"/>
            <a:ext cx="2169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gicel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hacel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tamp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cel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еханизам дејства оксидисане целулоз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Када се примени на површину која крвари, уз краткотрајан притисак зачепи капиларе и активира процес коагулациј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Ресорбује се после 7 да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Примењује се сува или натопљена са физиолошким растворо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05:40:50Z</dcterms:created>
  <dc:creator> </dc:creator>
  <dc:description/>
  <dc:language>en-US</dc:language>
  <cp:lastModifiedBy>Slobodan Jankovic</cp:lastModifiedBy>
  <dcterms:modified xsi:type="dcterms:W3CDTF">2014-07-12T16:20:16Z</dcterms:modified>
  <cp:revision>256</cp:revision>
  <dc:subject/>
  <dc:title>Slide 1</dc:title>
</cp:coreProperties>
</file>